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411-E93A-474D-95F8-80833B7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F7F-916D-4149-A0E2-35F1FA0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B318E-FF61-42ED-9E52-33E16D98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629DC-D0EE-4B73-BBF3-7BEE869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29AB7-23EF-4CE5-AE38-7893655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C176-E859-4508-9962-B00700B6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6BC2-1549-4C41-878D-3418636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73E90-25AF-433E-9DD2-21263CF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317A-E899-4304-BEC3-7179CDF0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93224-CF72-4239-B3B2-B8E158B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BFD8A-465A-45FF-AF67-B5F884D8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72BC3-FB4B-414A-B9D1-6C5E1658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883-523A-44EA-B626-EAB3F61E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D0025-8AF1-43BB-ABF4-8F8F106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CE162-3F70-4F42-B8E9-E99251F9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B8AA6-3AE1-4EA5-AC08-91206C0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6ABA-946F-4B57-8EDF-1CADAA3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376ED-D00A-488A-9570-5CE9507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42DDF-5BBE-48D5-8FEB-555EA92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878CD-67B8-4A2E-96A7-769665F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A5A99-7D92-448D-AA50-8303C80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E5E20-2D58-4795-B3D2-EC684AD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97716-1753-4479-9E76-0A350C8F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834-8BF2-4A2B-B679-ED71148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CB47A-079B-4DD9-8A85-7701A2B4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C8B9B-7F86-4B39-B206-CEEC111E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9B6CC-68CE-48AF-B4C8-D0FFA6EC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AC9C-E0A3-4398-8A66-95DCB846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16E0B-C480-482C-BD91-19082378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04A83-4311-4A71-8378-8669F66C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B0121-20FD-4186-81AD-1756273E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2E146-8809-4D29-B71A-0A41E46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CCA7F-D09B-43DE-BE37-FC3A60F5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55001-5DD8-4CBD-B444-7C56652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470D-8483-4E81-8FBB-8B3D13A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57E7A-B95C-4AB1-A55D-9FC49D1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A994-C016-4127-B0AB-A345E7F7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A46D3-65CF-43F2-B0D9-CC78474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937CF-621F-4025-95E8-6E5EEE1D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DD91F-A039-42A7-A55C-7837423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2B413-648D-4174-BBF7-9276CE4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04BD8-75E0-4431-8968-7B8DF3EB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C84A5-6379-4DFB-A0B8-CFA9E180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84BCC-B0DA-43B4-A62C-405E65C4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CD9C0-43DC-4051-96AE-1362D4CD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5783-4DCD-4753-9121-22489863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EC6AA-7BE0-4DBD-9349-3705A353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7DC62-2417-453D-8837-2BBF236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CF19F-9BDF-407B-AA2B-41DC7A1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FAEF2-27E7-4EA5-AAB8-EAD15103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6A44-D20F-4C4A-87F0-B4DE6F0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FA16F-F0FA-42F1-B81A-738F98EE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748F3-3663-41F1-A693-C6C86CD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38A8C-DC91-4AE3-9481-DABBF01A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58C45-904C-4B2A-A5C3-FC78131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B3905-690B-4AF4-925F-A2A48BC7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6E01-8D17-408E-8EAB-40B1C67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00233-3E3F-4AD5-AC6F-FCBF4071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04C87-8BB8-4525-B370-9845216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34C35-498E-4A20-8F3A-8899B3C9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5E8BB-14FC-4935-B345-9A99AA7F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301EB-7A12-4202-B2CF-799874F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F44B4-3A78-432C-A085-E35B076D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476E6-753D-4723-A6F3-550295F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834C8-9D20-435C-9583-5D98CEB5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2A7E6-0E19-4A50-8824-BE024EF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650D2-899A-4259-8EBB-8E31E39B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C43-7B92-40E3-9A70-EC6BAFA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C2C6B-4D68-4583-92C3-682394F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5F5A7-E1BE-4389-825F-E01DD06A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A1E6E-5A6E-481F-9932-0211BF3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1565A-CA13-4920-BCA5-7801E32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E398F-A9EE-4675-A6B0-72B30C6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969D4-5739-4967-8DC6-C26E8D6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CF60C-AEA9-41C1-9845-00460C77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A8B2A-1E69-4AAC-8B40-ADDFE207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E2FB3-D6AF-4DA2-BC73-DC35B6D4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930C1-F7F9-45A9-A308-66B8B036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921D-C4A0-4F18-ACFC-36F75E4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43FF4-613F-4F93-AFEE-60E6D19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0B724-4352-4F6D-BD94-33BC8645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5CF82-0924-4207-9FCF-3F0D333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57595-0FFF-4441-98BA-34F905E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1FE07-B05C-4CA6-89DE-A050E638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A82A3-0D8F-4DA0-9188-F646BD9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AD839-2EB4-41F7-8BF3-0BFCC706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A0D02-E68E-4A16-B32D-A738D19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5A747-211C-45CD-88BF-74EE425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05847-1BFA-4538-A882-D7EFA37E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89F-E085-416D-8158-979E1E4A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3003C-95C1-480B-8B2E-8C594EE2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80BBA-2E33-499B-A098-C406DFD5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D3881-8988-4DA9-9EA4-1D577F2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B43C6-7E4A-4D52-939D-A81D3E2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C7752-2203-45BF-A363-C90AF4BD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33F59-0149-46C6-918D-9F1203D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7D3E8-32F7-48CE-BD5B-02E5F85B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946FE-0888-45FC-9970-53A8A88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477CA-2D8A-4EE9-90D4-26612F2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9221F-20E0-4423-9992-39A89D5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190F-A196-40EF-8594-DA1D6F2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B927B-9089-4A4F-AE02-7DDF6B6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2086D-6C87-42D2-B0F2-0B6D7CD7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6EB1E-1F8E-40D6-9954-D5585816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F8364-4B8E-4B91-87C7-820A5AB0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DFA48-32F9-41E5-8942-4BFDEFD9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99A0F-DD0F-40BF-85CE-5FB6140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624AC-D670-4241-9580-D3D1B6A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397C4-5D6E-483A-A85F-DF7C724C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06FF7-3153-43D5-94FB-46ACE7E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F5A83-4FC6-4539-BC42-D6DD982D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4A8-990C-4886-80F6-46BC60E1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9C05-32B6-4712-AD37-57700A9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C98B9-5C74-42F0-8819-66AA9B5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AFD686-0A8C-4377-9CEB-7584E5C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817B7-5DA1-46C0-8DFB-3BF9E01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5A9CC-65ED-464B-BFCF-A5EDE533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9BFDD-8EA0-484A-AD4E-34B58657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23DA2-F33E-43FE-B3B8-9CDECFCE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665B7-8672-4B3E-BA68-B8B10E5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58F3B-F72B-47B2-AF00-F204F207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C5060-A5F2-4D6E-8E25-B51AAB44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66622-EED7-42C5-AA2D-210AB74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1E5C-DA2F-42E4-B933-6C14850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B93EF-DA2B-46E7-B3F1-A7F55E2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D11B2A-4FC4-47DD-AE69-985E2E1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0CA86-2912-40F6-8C86-A126829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D4BBA-850F-4DFF-9066-FE98BAF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22B7C-85B9-4E0B-802C-1A2C9176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E7857-BC4B-46EF-805C-57B9257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3581A-D918-47FB-A72B-17FADC0F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3EFF3-E0DE-4DB3-B307-2105FBEA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2BBB7-A5BA-4643-8C87-32C2B0CC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43D56-DF91-47DA-8698-B531406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F55-C28D-480D-A271-29E2B19F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0B468-0B7B-499B-B5D3-FD134D0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42745-F643-4BE0-AE9A-12E027B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46D4E-9980-40D6-BA0E-733FEFB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02E5C-0ED0-4FAA-9105-A5E0F6B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F72C0-1649-4C05-9DD3-8CA4EE5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B538D-19F3-43B4-9ED2-9A2F7B0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9AF97-5D6C-4E45-AD1D-09E15449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63F13-5814-4C81-8E54-CD3005BB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130F3-EF3B-4685-8418-28254F7D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79929-C54D-4B0D-82DA-EA8E6E3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A6D-D742-47FA-B85E-2C7142DD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55B18-9E16-49B8-A366-04633C5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D1313-C73C-4551-8D24-AAD8C09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6EC59-9575-4FBD-ACBD-9490E74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B6AC0-6D8C-4F01-A522-856D29F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69DE9-583C-4B28-9B0A-74AD2958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C85BB-2C8E-4133-A2CC-06A3727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0E256-6D74-446A-9331-7D9E8F3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81D33-29BE-48AB-ACFB-3A0DD3D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8EF2C-494F-4A04-9287-31DC327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D014B-E26A-4139-9C37-263B1836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A5D9-88E3-4D57-9D1F-2D6045DD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80F07-FF87-433E-A2F8-8CAA0AF7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0A662-2E67-43B3-AFBF-6A2FC975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0BDF3-9A22-44C3-A448-C4A14F4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4CBB3-D930-4DC1-9010-516A5EB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2A00D-AB82-4C6E-BB57-26F6F4D4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E0995-4E81-4A74-9661-079F89C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FD13C-5900-4368-A22B-E67DB5F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2D4E8-D4A3-47EC-B0CB-CAF9627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1378D5-615C-4FC3-AC0F-0E1516B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FBE66-5A47-418C-BB2C-B76DDDE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7207-87F9-43D1-B6C4-5DD1323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D6495-F352-427B-9025-39B713B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0DBD1-1A4C-422B-AB67-3905DCA6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CFDA9-B7C9-4FCB-BF8C-A1AA0B73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53D1-459A-49EA-866E-B6FB4273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6ED8-FA0B-48B5-BC9C-54DC01B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1EED-D989-4CC1-813F-AAEEB204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E7B6-4A65-4588-AE89-E4A54DB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FA0-90B3-4DE1-BFF1-201E7C9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45BD-487C-45B7-B4D2-C2EF8A1A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6914-F2D6-417E-B636-C83B558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FC64-B3E1-4E31-AF5D-DD756BD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E7ED-B455-451B-B77E-E0FD282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8700-2B63-421D-9C10-10D4434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4843-5070-4196-A303-A3D8D06D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6904-0D2F-4012-BCA3-C9C67619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0400-DB4E-4749-967E-9B81E47D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FDBC-801A-4F9E-B7CF-8B6E2B8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7DB0-CD1B-4799-A181-71CF14C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146-5064-4C60-B899-B613A0B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9835-AFB7-458C-95E5-DE74287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0B4C-F769-479B-BD70-51CCAD4B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4FE4-1C55-47EE-A186-6E4379B0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64F9-7AF9-404A-B2BC-AF712C3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552A-CC02-4D25-B5CE-CFB5CE9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AF65-C2DE-4ABC-AAC8-0521716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BEA6-2B33-453B-A4BB-7FAF1790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8606-6428-4DCB-8AE8-FE60442B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A8DD-BDB6-4DF0-940A-ECA7324D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99E3E-4FD0-49BB-A32E-07B30388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C5C-DE14-4829-A823-4AB8CC9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FBB8-A2B2-4C4B-8E15-00D91EA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7216-9E56-4D9E-BE9B-A7A0389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01F7-2856-4BD0-9670-E2E4F93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6CEF-30B7-407F-A388-969F801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2C5C-AFAE-4357-BBB6-98B9DCFA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2166-0DDA-454E-9382-4640568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4C7D-9785-45DA-8789-EDAEFA6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3748-3DFB-4E4D-9B2C-1D9170F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5A9D-56E9-4B0E-AEC6-0E28F50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142C3-41A3-4D06-AB4B-6D6654D6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3B3-AC99-4D18-AFD1-412F2D2E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034E-4773-42D3-90A1-AF40A840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64C7-7BC4-4D29-9BEC-7BA377EC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E1B06-FBFA-4F84-B8BF-E80C55B7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D439-C9FB-423C-94E7-B68C7CF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AF7A-DDF0-4638-8450-C08AAB2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B40C-FB52-45C9-8FAE-572C2EBC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3169-D742-4FA0-BB59-C6FA6635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0890-B4C7-44B3-B137-B49F77D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6245-303F-4F3E-A941-870B055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A4B9D-D27C-4621-B84E-8585D3D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5E4-3DF8-49A7-9766-03FBE4A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2659-8D32-415D-B1D1-6309870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79DE-6645-4289-A1A0-F0A82F3A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6181-823B-4DF1-A09E-3C03E15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E524-3436-4AB7-83CF-EEA259B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69DA-19E2-457A-B463-BC2431A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B366A-51F7-453C-BCFB-C2B7613A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871D9-E7CE-431E-B9E1-CBEC12F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A081-A4EC-4EE4-A1B0-4EE2795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F20F-6834-474D-8778-8AAB6726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7974F-1A0B-4EC9-B54E-D42B869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D8F-590D-4601-AF09-AFFD711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A1000-F7A5-4DF8-B19E-CB4154B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A120-7412-4371-81F1-2257278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5DD58-8F6C-480A-812A-4ECB3CE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3A5C-BA76-4C35-AF6D-ED82AED0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F4D3-62E8-4518-A549-848A2AA6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BCD8-7FC7-431A-9BF7-A2BFB94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8A45-9B31-4E27-AC73-E4FC0D57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7BD3-E991-4F59-AE17-16FF33D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4866C-8086-45AC-8721-75EC472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DDA8B-6DD5-402D-AF3D-C0D17AFC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EB4-1986-4232-ABD6-B67EE1DF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BC2C-EEE4-4A54-8EF7-35AAAA6C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7A8EC-FA76-435D-A49C-B45B7CF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A675-AD96-425F-AC9A-F37C8D60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294FF-E92A-4C6F-AC10-9518731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ECD6-FFA3-4376-B07B-9B1381C8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B79C-EB9B-47BA-8FE3-C247E94B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0457-93CD-46A6-8B73-00CC82C9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D2730-8A23-4CD4-9661-6D28EE3B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3D6FD-3D15-4D40-89ED-43E4F5A0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D6EE6-CE99-4841-946D-6F13D70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319-D113-4DAF-989C-873B619465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2BA-FA28-4CAD-B1B5-1CCCA1626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1581-8991-4EBE-B575-7B945C1844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71C-A30A-4C35-9B5A-429266156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8AD9-5D5A-42AD-A69A-BB88E88FE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9127-D56C-4184-95A4-CC364263C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CBB-351E-4F5C-A146-A99834CF61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2F5-2E76-43C9-8028-8B995F334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D94-8870-4A0C-840E-654A48A3A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B76F-3234-4256-9817-1D7A243B0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93B-F847-43D0-AAE9-7901C3BB6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2EC-D545-4340-A9FA-748DDCFCE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3E3-9927-4752-8DD8-C89C4EE09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0AB-F63D-4F72-88D7-EE60030C82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2956-9EC5-4194-A773-BF5DEEB1C9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ACE-950C-492D-B2C2-CF624A366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B19-0A1A-463D-BB2E-01536F66E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E05-C9F2-4CAF-9719-08906E056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5C1-82F4-4753-BD5E-DF7AA6459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BFC1-9E2B-44C7-B43B-C2D2B61EF5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C12-0661-49DE-966E-5D2397377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15D1-0A7A-4662-ABB1-500D5F1B6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1CAF-1AEB-48F4-8E9C-1EE066FAE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E737-992C-462E-9424-43AE6EEC2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D9C-B273-47E8-8B1B-01F205B6B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340D-452C-43B3-BC79-F931A4546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31E-8C2C-41BD-B3F3-41DBC73D95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A1D-91B8-4BDE-8BBE-C1587AB58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B77A-0934-4F87-996B-10DD1A7BC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80F1-B141-49CB-BBCE-D6C963F94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14D-36AA-40EC-BF8F-2C6F5A936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20C-788F-41BC-AFC8-B70D3AE6E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C097-EFBB-4735-B51B-BB63DA558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89D4-E1A5-46DF-8C3D-E9A129084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67D-D544-45D0-B6A0-460A6A6F0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AEA-12C7-473A-A6E3-6811EB353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2E66-AA81-47B1-B443-E176C985D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E2C2-B57A-4610-B9FE-78ED2F4B5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D047-999B-467C-8B3B-6CE25D868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D5DA-B4B4-4711-AC66-5BE7DEE7A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729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9633" descr=""/>
          <p:cNvPicPr/>
          <p:nvPr/>
        </p:nvPicPr>
        <p:blipFill>
          <a:blip r:embed="rId1"/>
          <a:stretch/>
        </p:blipFill>
        <p:spPr>
          <a:xfrm>
            <a:off x="490680" y="919080"/>
            <a:ext cx="8162640" cy="5534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3097080" cy="7923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3492360" y="1125360"/>
            <a:ext cx="2448000" cy="476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7128000" cy="4759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7"/>
          <a:stretch/>
        </p:blipFill>
        <p:spPr>
          <a:xfrm>
            <a:off x="395280" y="3645000"/>
            <a:ext cx="8280360" cy="9363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8"/>
          <a:stretch/>
        </p:blipFill>
        <p:spPr>
          <a:xfrm>
            <a:off x="324000" y="4653000"/>
            <a:ext cx="8280360" cy="936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9"/>
          <a:stretch/>
        </p:blipFill>
        <p:spPr>
          <a:xfrm>
            <a:off x="395280" y="5661000"/>
            <a:ext cx="8280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33280" y="1371600"/>
            <a:ext cx="867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59410" descr=""/>
          <p:cNvPicPr/>
          <p:nvPr/>
        </p:nvPicPr>
        <p:blipFill>
          <a:blip r:embed="rId1"/>
          <a:stretch/>
        </p:blipFill>
        <p:spPr>
          <a:xfrm>
            <a:off x="457200" y="1595520"/>
            <a:ext cx="8229600" cy="3666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8280360" cy="1295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468360" y="357336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324000" y="422100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95280" y="4797360"/>
            <a:ext cx="8280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52360" y="115920"/>
            <a:ext cx="7848720" cy="659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95280" y="214776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79280" y="3284640"/>
            <a:ext cx="7993080" cy="720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324000" y="515772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68360" y="5734080"/>
            <a:ext cx="799308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395280" y="6251400"/>
            <a:ext cx="7993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233280" y="824040"/>
            <a:ext cx="8677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632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82080" cy="10288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6325" descr=""/>
          <p:cNvPicPr/>
          <p:nvPr/>
        </p:nvPicPr>
        <p:blipFill>
          <a:blip r:embed="rId2"/>
          <a:stretch/>
        </p:blipFill>
        <p:spPr>
          <a:xfrm>
            <a:off x="482760" y="2852640"/>
            <a:ext cx="7419960" cy="2543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8352000" cy="792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250920" y="378936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50920" y="4437000"/>
            <a:ext cx="8351640" cy="476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8"/>
          <a:stretch/>
        </p:blipFill>
        <p:spPr>
          <a:xfrm>
            <a:off x="179280" y="4941720"/>
            <a:ext cx="8352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5300" descr=""/>
          <p:cNvPicPr/>
          <p:nvPr/>
        </p:nvPicPr>
        <p:blipFill>
          <a:blip r:embed="rId1"/>
          <a:stretch/>
        </p:blipFill>
        <p:spPr>
          <a:xfrm>
            <a:off x="676440" y="1790640"/>
            <a:ext cx="7791120" cy="3276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2144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7921440" cy="792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7921440" cy="475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180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7921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4276" descr=""/>
          <p:cNvPicPr/>
          <p:nvPr/>
        </p:nvPicPr>
        <p:blipFill>
          <a:blip r:embed="rId1"/>
          <a:stretch/>
        </p:blipFill>
        <p:spPr>
          <a:xfrm>
            <a:off x="257040" y="990720"/>
            <a:ext cx="8629920" cy="4876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482760" y="3933720"/>
            <a:ext cx="2158920" cy="7905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2671920" y="4076640"/>
            <a:ext cx="319536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770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395280" y="5430960"/>
            <a:ext cx="770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52232" descr=""/>
          <p:cNvPicPr/>
          <p:nvPr/>
        </p:nvPicPr>
        <p:blipFill>
          <a:blip r:embed="rId1"/>
          <a:stretch/>
        </p:blipFill>
        <p:spPr>
          <a:xfrm>
            <a:off x="243000" y="704880"/>
            <a:ext cx="8658000" cy="5676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3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